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F46-D327-4D17-9EE0-F177E3B9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5CE-8DA3-4CBF-A48F-A6AE5F1F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D04-F9F1-4367-B77D-4527E6BB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55B-CF12-4F02-9267-DAE46983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A694-308D-4513-9B17-DE683878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F53C-7CC7-4442-8502-5D35CCBF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D415-A505-4C1A-B967-27F9816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7C9A-4329-45A7-A057-735B179B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C92E-29A1-430F-ADD2-5533A384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2C71-F604-471A-B94C-BA6EB839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3159-210F-49D3-AE3A-34BC198D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D2F-8674-474E-AA9E-FDC72AE0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5C64-4004-4DCD-B2E3-8007EB0B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73BB-A413-46FE-AA4D-7273BEB8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C24-1588-424C-88C1-9F183A0E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EF50-3F58-4598-9676-4356AB98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E5ED-BF7E-442D-98A7-13F913DB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33E6-5254-4B52-88B6-AF3358B5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913C-58DD-451D-BEC8-6A1DCB34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4E941-CBC5-4D52-98CB-78713D08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C9B8-2ACC-4D4A-A72A-D8D3DD48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4AFED-C5C2-4496-B5A7-FA028E1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FAA-818F-42B2-A317-4A2FF0BB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715E-1022-4304-9585-A616F3EF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6551-D664-467C-9D80-6D83F98B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AE17-FDBB-43C7-B118-FA12860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198C-C335-44D7-A66D-176C33D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B2DE-2216-4983-81FF-790AF81D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3950-600C-42A8-901F-A673309A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B4E0-D041-4877-BDDC-6A89691D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55DAF-FC57-4353-8DD2-71161F77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B9D2-F9EA-4AD9-862C-2701C25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061F-4C13-4827-9E4F-A8AECDC0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0A8-5E77-48E8-841B-8FD9F979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EE828-720A-4709-9575-F2061FCD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7AC8-DC5E-4B64-9A15-D32E01F6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3DF79-1811-4A03-A5C1-BA854CF8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6C362-EE15-45EA-BC65-6B9D6074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717A-8FCD-4A61-8517-302A3599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AF83-0DB0-46A7-8E78-ECC5C2EC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81C1-A49D-4DC6-9F18-0AC53156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374F-B12E-4933-93FA-F968A048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79AF-CF0A-4E42-B115-E884EBF3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B0750-DE1D-41BC-AC2B-B650E2B5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1A7-80C7-4431-99F9-8F6FF5A3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DEBB9-0668-440D-AAB5-E8E5574D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9EF9-76C5-49A9-A3FF-CDD76EF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9C33D-B3FE-4E12-B360-92092755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64662-6668-4D8F-87A1-E1AF6079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40DD1-6F7C-4E89-AEA6-B61DC893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39551-332A-444D-8390-91C4391D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3B84-75CF-458B-93D0-CD1BF0D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9EC5F-BC01-4C03-B6E7-3608571A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1A005-807A-46AE-9875-0783D4E0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48D9-D802-47BA-9C7B-13A7E2C5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B95-9876-484C-BFC5-F8F26387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1968F-A1CE-406A-9E34-911FF2DD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C59-0C5A-4A41-ADC0-08C88AA9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7BC-EF45-4584-AF67-A4BA1A2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064-07AF-4B3B-980A-09956E59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3405-85AA-48F8-9070-2EE77967B92A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9E6-FC7B-4C7E-BEC4-4DA899D21D72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FB6-4C3D-4DD0-B425-074FBA411DE5}" type="slidenum">
              <a:rPr b="0" lang="en-CA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6D96-D94F-416A-8B12-C681C62C4784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20B1-78C5-42D0-AF27-DD5751D81C42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Federal Government (based in Ottawa) provides services such as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0" y="3902040"/>
            <a:ext cx="3270240" cy="2955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6554880" y="4745160"/>
            <a:ext cx="2585880" cy="1979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4"/>
          <a:stretch/>
        </p:blipFill>
        <p:spPr>
          <a:xfrm>
            <a:off x="3238560" y="2298600"/>
            <a:ext cx="4568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Provincial and Territorial government administer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28440" y="2095560"/>
            <a:ext cx="4000680" cy="2666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7186680" y="2013120"/>
            <a:ext cx="1957320" cy="2828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1258920" y="4762440"/>
            <a:ext cx="66261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Municipal governments look after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108000" y="2349360"/>
            <a:ext cx="2666880" cy="3383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3"/>
          <a:stretch/>
        </p:blipFill>
        <p:spPr>
          <a:xfrm>
            <a:off x="3924360" y="2793960"/>
            <a:ext cx="4714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We move large amounts of freight and people around the country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Shipping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Railway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Trucking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Air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Public Transit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Tertiary industry workers earn their living in retail trade, service-oriented jobs and government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The largest tertiary industry is the business and personal services industry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73.7 % of Canadians work in the Tertiary industry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Tertiary jobs do not produce any raw materials or goods, instead they provide services.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While many jobs are unskilled, others such as a teacher or lawyer require training and education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fe6d0"/>
                </a:solidFill>
                <a:latin typeface="Tw Cen MT"/>
              </a:rPr>
              <a:t>Retail Sector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Provides consumers with a wide variety of good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Cars, clothe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fe6d0"/>
                </a:solidFill>
                <a:latin typeface="Tw Cen MT"/>
              </a:rPr>
              <a:t>Ribbon Development- </a:t>
            </a: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 rows of stores side by side on a main street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Strip Mall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planned shopping areas are found in newer areas and suburb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advantage is that they offer free parking and more space for retailers than ribbon development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762120" y="928800"/>
            <a:ext cx="7619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Regional Mall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Pembroke Mall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Wide variety of goods and service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Facilities such as day care, spas and blood donor clinics, restaurants, movie theatre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Big Box Store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Large retail stores that offer a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huge volume of good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Because of size and volume these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dfe6d0"/>
                </a:solidFill>
                <a:latin typeface="Tw Cen MT"/>
              </a:rPr>
              <a:t>stores can sell products for less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5724360" y="3645000"/>
            <a:ext cx="28576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fe6d0"/>
                </a:solidFill>
                <a:latin typeface="Tw Cen MT"/>
              </a:rPr>
              <a:t>Smaller locally owned stores can not compete with low prices and huge selection offered by the big box store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46386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28:23Z</dcterms:created>
  <dc:creator>Jason</dc:creator>
  <dc:description/>
  <dc:language>en-US</dc:language>
  <cp:lastModifiedBy>Jason</cp:lastModifiedBy>
  <dcterms:modified xsi:type="dcterms:W3CDTF">2011-01-06T14:03:54Z</dcterms:modified>
  <cp:revision>4</cp:revision>
  <dc:subject/>
  <dc:title>8.3 Tertiary Industries</dc:title>
</cp:coreProperties>
</file>